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A035-3CE1-4988-B184-DA40D5582D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A4CA-D38C-4D51-BB13-47A9D8957A7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7CD0-EBC2-4CB0-891F-36C36F62991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369A-4ED7-4C0D-A63C-7751E3E2430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814-2458-4D05-ABD3-E5FA0F02B04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FFD2-9B3D-4A86-AC27-63EE22176B6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BD3-AA3A-44DA-B3E2-85107A36C0F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8DE5-3F36-476A-BE2F-0FF730444FE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5A7-3636-47ED-A5C8-F622BD84B52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BC5-4826-4B14-B62C-D65600F5598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C32A-5DB7-48A2-9607-B9CC842F8F8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2DAA-C45D-4967-A17A-8A14C133F64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3C3B-0AF3-49B4-B974-ED261BEDFA2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6B6-D112-40CA-B628-0D205DED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097-C10A-4200-822B-632D9B8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86F-C378-443B-BE4A-EA84183D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25B-9B86-43A5-8C69-E17D403F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5015-1D6A-44C8-9AAD-07B47DF5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63E3-AECD-411F-BE61-B92735E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806D-3603-47BC-BA72-9284DB2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0A17-5959-45D8-89C8-43E68008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CCD-50AA-46E3-AC84-A5DFD022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21DB-D58C-41D3-917C-B420668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A652-2C02-4E7C-9DCE-47467B6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CA3-320A-4B64-883C-50FECB03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2902-573A-49B1-8F54-7F98680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A74-92FE-4BAF-AB28-814BC83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507B-B333-40B0-A4C4-BF7623F5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9986-4DCC-418F-BD0E-944FF196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3B3-7035-478D-91F5-00F11131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DEB-E801-47E2-834A-71721F0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083-61A0-4DBA-83D2-6A6CD95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F0B-3E45-4D50-A695-0006B66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D17-DE22-40E3-B2D0-465A6DB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1BF-1B5D-48BA-9C6B-C9EF60AC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355-BB6C-424B-AD84-D18A8FD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58D-0F46-4063-85C6-13C2B5B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6A2-744C-4817-89BA-5A1BB956941D}" type="slidenum">
              <a:rPr b="0" lang="fr-FR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9488-FC73-4C59-9A67-0C6949950101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Arial"/>
              </a:rPr>
              <a:t>Neuroenergetic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6600"/>
                </a:solidFill>
                <a:latin typeface="Arial"/>
              </a:rPr>
              <a:t>Stud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6600"/>
                </a:solidFill>
                <a:latin typeface="Arial"/>
              </a:rPr>
              <a:t>Idrizi Elita, Tscherrig Jennifer, Pattaroni C</a:t>
            </a:r>
            <a:r>
              <a:rPr b="0" lang="fr-CH" sz="2400" spc="-1" strike="noStrike">
                <a:solidFill>
                  <a:srgbClr val="ff6600"/>
                </a:solidFill>
                <a:latin typeface="Times New Roman"/>
              </a:rPr>
              <a:t>é</a:t>
            </a:r>
            <a:r>
              <a:rPr b="0" lang="fr-CH" sz="2400" spc="-1" strike="noStrike">
                <a:solidFill>
                  <a:srgbClr val="ff66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6600"/>
                </a:solidFill>
                <a:latin typeface="Arial"/>
              </a:rPr>
              <a:t>Supervis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6600"/>
                </a:solidFill>
                <a:latin typeface="Arial"/>
              </a:rPr>
              <a:t>Pellerin Luc, Aitana Morton de Lachapelle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620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1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Metabo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572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+H       [GnH]     </a:t>
            </a:r>
            <a:r>
              <a:rPr b="0" lang="fr-CH" sz="24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*+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           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            k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es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pre-equilibrium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rapid equilibration of G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total 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okinase concentratio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 H+[GnH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x speed 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reached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hen all enzymes form a complex with Glc: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max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-M constant :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+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/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(Gn*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/(Gn+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rreversible Michaelis-Menten kin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048120" y="2209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6765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2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45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90b"/>
                </a:solidFill>
                <a:latin typeface="Arial"/>
              </a:rPr>
              <a:t>Ge+T       [GeT]       [GnT]       Gn+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k2, k-2             k3, k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3880" indent="-27468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e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pre-equilibrium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rapid equilibration of GeT, G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transport speed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issociation of GeT and GnT faster than transport (reversible Michaelis-Menten kine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ssociation constants :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d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total GLUT transporters concentr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T + [GeT] + [Gn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x speeds for Glc transport inside and outside the neuron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-27468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2[GeT]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k-2[GnT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(Ge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 - 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(Gn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)/(1+(Ge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+(Gn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371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Our graphic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33520" y="1501920"/>
            <a:ext cx="81532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Graphics (Barr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0"/>
          <p:cNvPicPr/>
          <p:nvPr/>
        </p:nvPicPr>
        <p:blipFill>
          <a:blip r:embed="rId1"/>
          <a:stretch/>
        </p:blipFill>
        <p:spPr>
          <a:xfrm>
            <a:off x="685800" y="1484280"/>
            <a:ext cx="8001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99cc00"/>
                </a:solidFill>
                <a:latin typeface="Arial"/>
              </a:rPr>
              <a:t>Conclusions: analytical and numerical</a:t>
            </a:r>
            <a:r>
              <a:rPr b="0" lang="fr-CH" sz="2900" spc="-1" strike="noStrike">
                <a:solidFill>
                  <a:srgbClr val="99cc00"/>
                </a:solidFill>
                <a:latin typeface="Arial"/>
              </a:rPr>
              <a:t> method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alytical resul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vantages: simple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advantages: many hypo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umerical sim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o follow (lactate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Goals of the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port / metabolism of glucose and lactate rate-limiting for the br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&gt; Glucose: Ba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&gt; Lactate: our pro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sing mathematical tools (matlab) to enforce the hypothesis of lac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Biological asp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Glucose - lac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lucose: principal energ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ic substrat of the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ctate: energetic substrat of neur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ypoth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s of lactate: glucose transformed into lactate by the astrocytes to feed the neurones in extreme conditions of necessity of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Aspects biologiques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 d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taill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0" y="533520"/>
          <a:ext cx="91440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838080" y="1219320"/>
            <a:ext cx="2362320" cy="1752480"/>
          </a:xfrm>
          <a:prstGeom prst="ellipse">
            <a:avLst/>
          </a:prstGeom>
          <a:noFill/>
          <a:ln w="57240">
            <a:solidFill>
              <a:srgbClr val="fff9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99cc00"/>
                </a:solidFill>
                <a:latin typeface="Arial"/>
              </a:rPr>
              <a:t>Main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The transport of glucose is important to define its metabolism and contrari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Solve mathematically the transport and metabolism of lactate in the neurones like Barros did it for the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Mathematical asp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25680" indent="-5364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nalytical and numerical method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-5364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st part: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ransport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nd metabolism of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-5364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2nd part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transport </a:t>
            </a: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and me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tabolism</a:t>
            </a: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 of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 lac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7168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x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mple: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 production of a protein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Osaka"/>
              </a:rPr>
              <a:t>dP/dt = a*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ccff33"/>
                </a:solidFill>
                <a:latin typeface="Arial"/>
                <a:ea typeface="Osaka"/>
              </a:rPr>
              <a:t>analytical                 nume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                 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P(t) = Po *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at</a:t>
            </a:r>
            <a:r>
              <a:rPr b="0" lang="fr-CH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                  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no formula</a:t>
            </a:r>
            <a:r>
              <a:rPr b="0" lang="fr-CH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3580920" y="3048120"/>
            <a:ext cx="76212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4800600" y="3048120"/>
            <a:ext cx="68580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762120" y="4525920"/>
          <a:ext cx="358128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25920"/>
                    <a:ext cx="35812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9"/>
          <p:cNvGraphicFramePr/>
          <p:nvPr/>
        </p:nvGraphicFramePr>
        <p:xfrm>
          <a:off x="5257800" y="4502160"/>
          <a:ext cx="358128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4502160"/>
                    <a:ext cx="35812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Analytical and numeric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cc00"/>
                </a:solidFill>
                <a:latin typeface="Arial"/>
              </a:rPr>
              <a:t>Transport </a:t>
            </a:r>
            <a:r>
              <a:rPr b="0" lang="fr-CH" sz="3600" spc="-1" strike="noStrike">
                <a:solidFill>
                  <a:srgbClr val="99cc00"/>
                </a:solidFill>
                <a:latin typeface="Arial"/>
              </a:rPr>
              <a:t>and metabolism of </a:t>
            </a:r>
            <a:r>
              <a:rPr b="0" lang="fr-FR" sz="3600" spc="-1" strike="noStrike">
                <a:solidFill>
                  <a:srgbClr val="99cc00"/>
                </a:solidFill>
                <a:latin typeface="Arial"/>
              </a:rPr>
              <a:t>gluc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e+T      [GeT]      [GnT]      Gn+T+E      [GnE]     Gn*+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-1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             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2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[GeT]/dt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Ge * T -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 [GeT] -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 [GeT] +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 [GnT]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xtracellula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nsporter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 (GLU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n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uronal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osphoryl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160020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2895480" y="2209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414036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579600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7162920" y="2209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Object 12"/>
          <p:cNvGraphicFramePr/>
          <p:nvPr/>
        </p:nvGraphicFramePr>
        <p:xfrm>
          <a:off x="1447920" y="2133720"/>
          <a:ext cx="609588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60958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Line 13"/>
          <p:cNvSpPr/>
          <p:nvPr/>
        </p:nvSpPr>
        <p:spPr>
          <a:xfrm>
            <a:off x="160020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28195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41911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6"/>
          <p:cNvSpPr/>
          <p:nvPr/>
        </p:nvSpPr>
        <p:spPr>
          <a:xfrm>
            <a:off x="57913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1:11:39Z</dcterms:created>
  <dc:creator>unil</dc:creator>
  <dc:description/>
  <dc:language>en-US</dc:language>
  <cp:lastModifiedBy>Aitana Morton de Lachapelle</cp:lastModifiedBy>
  <dcterms:modified xsi:type="dcterms:W3CDTF">2009-04-02T09:21:14Z</dcterms:modified>
  <cp:revision>69</cp:revision>
  <dc:subject/>
  <dc:title>Neuroenergetics</dc:title>
</cp:coreProperties>
</file>